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2.gif" ContentType="image/gif"/>
  <Override PartName="/ppt/media/image2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17B-D720-4B7D-BAC9-DDBF042A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88E-6725-4A09-A165-242852B4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4F38C-69BB-478C-B26F-4C66C540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24E51-7302-424C-BE35-0CDAD03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D9882-95AB-44E0-899C-29D912B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9CF6D-9F53-4520-B148-1E50941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02250-2810-448F-A2DB-4DCDADE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DB30F-885D-40FC-B952-F7FE577C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E95C2-61DC-402F-B11B-5581BD4F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7EB03-0AC6-4802-94A9-E00C2CDA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E119F-F4DA-4103-87A4-4089421D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3C2-D0B8-4870-B1F3-3790B540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173-8ABF-47B6-BE19-F3220CAD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A5EF-9D64-4419-B047-510E9E3E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3E6F-D05C-45CE-8FD5-2BD03D9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9853-F8E3-4B9A-825D-C0938757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35C7-2C2B-4F5D-A681-AF7FF564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621F-6463-4FD7-A9CA-6A73F8A0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B9C4-C57A-4D98-B443-2A2E2EC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9FB5-04ED-4D30-8EA0-597465E9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D72-4046-4DC4-9017-D6BB6EB9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534F-394D-4DEA-A4E7-FB0EDF51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CCF5-14CC-4F94-8BAB-CD90F31B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F484-8A8C-47AE-A1D0-D1AFF29E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1BF-FBFF-4AA9-B39D-7AFFE06C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0793-421D-48A4-88DF-B1EBC7EE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3B17-59E1-4CE9-B731-3A33AE2D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2D0C-97BB-48EA-ACAC-66CFBC6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C658-3489-4D81-BA7D-DD1FF99E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1BE0-72A1-4134-A23F-CAFC1662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0062-B041-4DAC-800A-B4601770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51E-8B16-47BF-91D6-033B414B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C913-C49A-412C-AC6C-D99D7E50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3D2EA-9966-49D4-B2F1-3B7A398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FAC4D-0A89-4921-A32E-68B9479C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5610-99A1-48C6-8B2B-4AB15BCA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B01D-DB5B-42B4-A260-66D55D9C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9185-1AC3-4513-B3FC-3335A88D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F834-A92C-49E6-B614-3010E17B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ABAC0-B211-48F8-BB37-346B75E4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0247-3123-4913-99D9-87F1535E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E16C-EA8D-433A-BF16-BEB174CB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62B-973E-4934-AE6A-4CA03B5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014A-99A3-4C07-80B7-806F1695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0168-E6BD-4D94-A934-C215191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7B18-AFF9-472F-894F-52488851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7152C-EBDF-49B9-85D5-AEEA3E7E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D270-E2F5-43E8-9964-C7826708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2DE7-EE73-4B1D-859A-0BD4598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D161-8B3C-44EF-8BD4-74839B66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4C74-3C62-479A-9E73-25DEDD7B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2C0F9-2C22-4553-BDCE-D4E3C66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84C87-A927-4CFF-AF2C-A1FD6042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A2D-84A6-48EC-81CC-E71902F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AB88-C1F9-4C62-83B1-528B70E6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6685-7D3B-4A9E-AF60-424DDD8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5EBB-4C1D-46EF-9483-1B36372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CDFA-61EB-4098-AC3D-78FD6C9D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573D-07D6-4193-9C4B-00214222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75B1-8112-4AE0-8749-EBD40D83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E103D-48DA-436E-B9F9-4257F50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1DA69-F9FC-4529-BF4C-75DDE3E2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D4F5-7CAD-45C5-BFA2-8D042ACC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32BF-923A-4F48-B1A2-1311529B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30F-B3CC-4490-B19D-06364AA5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99F7-D09B-437B-87E1-E2F6DEEA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F4B5-D59D-4732-BA72-C39847AD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69F3-7F27-4E11-BA30-D3CC5C51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6529D-B186-4E45-9EDF-6FA9055C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5154-1718-4ABA-B2FA-3AFA612F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E712C-20DD-4C26-BA10-D4ECEF40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06E8-61E8-4EA8-B366-6DC2A7E1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8C99-5D27-40CE-9B69-53BA081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FFF5-B3D5-4AEA-95BF-762EAA5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51F0A-582A-4A3D-82FA-50AB2469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585-8133-42EA-87D8-2DF9392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3178-2CDD-4BE3-9A71-F0052D06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DB832-99B1-421C-A35E-7DC66D95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168B-F5B2-429A-94D6-266CE787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32B9D-C432-4A1A-9000-CB6F6047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A0F55-04AB-4FE2-A85B-8B5ED36F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C2EF6-047A-4043-80F7-EA1D0E6C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5A6D2-07B3-47AE-8F3D-4D7E0DDB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0CC8C-7D74-419B-B091-62B5BB66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D1F4-C258-4FA5-AEC0-A915F04F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CDEB-A310-459F-B4DE-1FCEDA7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CE6-950B-4F1D-975B-3709FDA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25BE-15DC-44FA-BABB-73D75B5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66BD9-CA5D-4848-B6D4-9ECB082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E3947-B34C-4E67-A3CB-4DB5722B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A5FEA-8A46-4EA5-929A-9D443545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552F7-896F-401C-A8E4-C765BF9A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2095-9AB5-4CFF-9C3D-3D6E8760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B203C-B148-41A5-98FF-931056CB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5E866-D051-4EA3-B42D-1B61C2A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B35F5-70A8-4857-A0F0-04B33EFE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895E4-A7B0-42CB-990B-11D87B7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F05-86CD-4465-8D2F-817703F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971DE-8ED0-41CB-AA8F-5681C6DF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F8812-4EE9-49FD-8A07-33748A49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7BCE-B53F-4E59-BC67-487A8CFE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8A3B1-EA9D-4240-8598-805FF5F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4FB75-50EA-460B-8A06-1EB856D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23CB-0EAF-4357-8446-84DF81AB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9C339-E6E2-45CD-9F09-4059242C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67780-1E2C-4529-AF23-4D59FB71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10E9-5C84-4329-9A6F-0A072F9A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57255-7338-4631-B427-50ADB2A6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9D3-1B52-4CBB-9961-136462FC51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3BDB-1B48-48F6-8E76-A49C184A68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8F1-92BD-458D-A499-F4D89D6C3E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A27-AAEC-4F27-B20F-EB68BAA9F1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5985-8FA9-47A5-9CB1-E707269755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DF85-B4B5-49F7-AF07-B970DBCA22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17E-F9A6-48EC-A198-252DD0155B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78C5-C9B0-4946-B894-599DFE6565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773F-A942-467A-A59D-C12AED9685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15.gif"/><Relationship Id="rId10" Type="http://schemas.openxmlformats.org/officeDocument/2006/relationships/image" Target="../media/image19.gif"/><Relationship Id="rId11" Type="http://schemas.openxmlformats.org/officeDocument/2006/relationships/image" Target="../media/image18.gif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aa44f6d72d88c0f62fa3726c3f899567"/>
          <p:cNvPicPr/>
          <p:nvPr/>
        </p:nvPicPr>
        <p:blipFill>
          <a:blip r:embed="rId1"/>
          <a:stretch/>
        </p:blipFill>
        <p:spPr>
          <a:xfrm>
            <a:off x="6400800" y="83808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6" descr=""/>
          <p:cNvPicPr/>
          <p:nvPr/>
        </p:nvPicPr>
        <p:blipFill>
          <a:blip r:embed="rId2"/>
          <a:stretch/>
        </p:blipFill>
        <p:spPr>
          <a:xfrm>
            <a:off x="1719360" y="2535120"/>
            <a:ext cx="5930640" cy="1208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b3b0a067af846a956f8a9cc4e9a7dfe5"/>
          <p:cNvPicPr/>
          <p:nvPr/>
        </p:nvPicPr>
        <p:blipFill>
          <a:blip r:embed="rId4"/>
          <a:stretch/>
        </p:blipFill>
        <p:spPr>
          <a:xfrm>
            <a:off x="762120" y="76212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lowers24"/>
          <p:cNvPicPr/>
          <p:nvPr/>
        </p:nvPicPr>
        <p:blipFill>
          <a:blip r:embed="rId5"/>
          <a:stretch/>
        </p:blipFill>
        <p:spPr>
          <a:xfrm>
            <a:off x="228600" y="358128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502920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255840" y="378000"/>
            <a:ext cx="3059280" cy="933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f43"/>
          <p:cNvPicPr/>
          <p:nvPr/>
        </p:nvPicPr>
        <p:blipFill>
          <a:blip r:embed="rId2"/>
          <a:stretch/>
        </p:blipFill>
        <p:spPr>
          <a:xfrm>
            <a:off x="609480" y="15238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f43"/>
          <p:cNvPicPr/>
          <p:nvPr/>
        </p:nvPicPr>
        <p:blipFill>
          <a:blip r:embed="rId3"/>
          <a:stretch/>
        </p:blipFill>
        <p:spPr>
          <a:xfrm>
            <a:off x="2286000" y="2362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f43"/>
          <p:cNvPicPr/>
          <p:nvPr/>
        </p:nvPicPr>
        <p:blipFill>
          <a:blip r:embed="rId4"/>
          <a:stretch/>
        </p:blipFill>
        <p:spPr>
          <a:xfrm>
            <a:off x="4038480" y="31240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f43"/>
          <p:cNvPicPr/>
          <p:nvPr/>
        </p:nvPicPr>
        <p:blipFill>
          <a:blip r:embed="rId5"/>
          <a:stretch/>
        </p:blipFill>
        <p:spPr>
          <a:xfrm>
            <a:off x="5943600" y="39625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f43"/>
          <p:cNvPicPr/>
          <p:nvPr/>
        </p:nvPicPr>
        <p:blipFill>
          <a:blip r:embed="rId6"/>
          <a:stretch/>
        </p:blipFill>
        <p:spPr>
          <a:xfrm>
            <a:off x="7391520" y="480060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6" descr="b11"/>
          <p:cNvPicPr/>
          <p:nvPr/>
        </p:nvPicPr>
        <p:blipFill>
          <a:blip r:embed="rId1"/>
          <a:stretch/>
        </p:blipFill>
        <p:spPr>
          <a:xfrm>
            <a:off x="7696080" y="1219320"/>
            <a:ext cx="105408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2" name="Picture 29" descr="blume049"/>
          <p:cNvPicPr/>
          <p:nvPr/>
        </p:nvPicPr>
        <p:blipFill>
          <a:blip r:embed="rId2"/>
          <a:stretch/>
        </p:blipFill>
        <p:spPr>
          <a:xfrm>
            <a:off x="76201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0" descr="blume049"/>
          <p:cNvPicPr/>
          <p:nvPr/>
        </p:nvPicPr>
        <p:blipFill>
          <a:blip r:embed="rId3"/>
          <a:stretch/>
        </p:blipFill>
        <p:spPr>
          <a:xfrm>
            <a:off x="3352680" y="3048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1" descr="b13"/>
          <p:cNvPicPr/>
          <p:nvPr/>
        </p:nvPicPr>
        <p:blipFill>
          <a:blip r:embed="rId4"/>
          <a:stretch/>
        </p:blipFill>
        <p:spPr>
          <a:xfrm>
            <a:off x="3352680" y="46483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2" descr="b13"/>
          <p:cNvPicPr/>
          <p:nvPr/>
        </p:nvPicPr>
        <p:blipFill>
          <a:blip r:embed="rId5"/>
          <a:stretch/>
        </p:blipFill>
        <p:spPr>
          <a:xfrm>
            <a:off x="5410080" y="160020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3" descr="b11"/>
          <p:cNvPicPr/>
          <p:nvPr/>
        </p:nvPicPr>
        <p:blipFill>
          <a:blip r:embed="rId6"/>
          <a:stretch/>
        </p:blipFill>
        <p:spPr>
          <a:xfrm>
            <a:off x="5410080" y="32004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b11"/>
          <p:cNvPicPr/>
          <p:nvPr/>
        </p:nvPicPr>
        <p:blipFill>
          <a:blip r:embed="rId7"/>
          <a:stretch/>
        </p:blipFill>
        <p:spPr>
          <a:xfrm>
            <a:off x="3352680" y="16002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5" descr="b13"/>
          <p:cNvPicPr/>
          <p:nvPr/>
        </p:nvPicPr>
        <p:blipFill>
          <a:blip r:embed="rId8"/>
          <a:stretch/>
        </p:blipFill>
        <p:spPr>
          <a:xfrm>
            <a:off x="7696080" y="289548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7" descr="blume049"/>
          <p:cNvPicPr/>
          <p:nvPr/>
        </p:nvPicPr>
        <p:blipFill>
          <a:blip r:embed="rId9"/>
          <a:stretch/>
        </p:blipFill>
        <p:spPr>
          <a:xfrm>
            <a:off x="1219320" y="1523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2" descr="b13"/>
          <p:cNvPicPr/>
          <p:nvPr/>
        </p:nvPicPr>
        <p:blipFill>
          <a:blip r:embed="rId10"/>
          <a:stretch/>
        </p:blipFill>
        <p:spPr>
          <a:xfrm>
            <a:off x="1295280" y="30481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3" descr="b11"/>
          <p:cNvPicPr/>
          <p:nvPr/>
        </p:nvPicPr>
        <p:blipFill>
          <a:blip r:embed="rId11"/>
          <a:stretch/>
        </p:blipFill>
        <p:spPr>
          <a:xfrm>
            <a:off x="1371600" y="48006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7" descr="blume049"/>
          <p:cNvPicPr/>
          <p:nvPr/>
        </p:nvPicPr>
        <p:blipFill>
          <a:blip r:embed="rId12"/>
          <a:stretch/>
        </p:blipFill>
        <p:spPr>
          <a:xfrm>
            <a:off x="5410080" y="46483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8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0"/>
          <p:cNvSpPr/>
          <p:nvPr/>
        </p:nvSpPr>
        <p:spPr>
          <a:xfrm>
            <a:off x="708660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33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716292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7" descr="4"/>
          <p:cNvPicPr/>
          <p:nvPr/>
        </p:nvPicPr>
        <p:blipFill>
          <a:blip r:embed="rId1"/>
          <a:stretch/>
        </p:blipFill>
        <p:spPr>
          <a:xfrm>
            <a:off x="3505320" y="1447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8" descr="4"/>
          <p:cNvPicPr/>
          <p:nvPr/>
        </p:nvPicPr>
        <p:blipFill>
          <a:blip r:embed="rId2"/>
          <a:stretch/>
        </p:blipFill>
        <p:spPr>
          <a:xfrm>
            <a:off x="1447920" y="31240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9" descr="4"/>
          <p:cNvPicPr/>
          <p:nvPr/>
        </p:nvPicPr>
        <p:blipFill>
          <a:blip r:embed="rId3"/>
          <a:stretch/>
        </p:blipFill>
        <p:spPr>
          <a:xfrm>
            <a:off x="5486400" y="47242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0" descr="4"/>
          <p:cNvPicPr/>
          <p:nvPr/>
        </p:nvPicPr>
        <p:blipFill>
          <a:blip r:embed="rId4"/>
          <a:stretch/>
        </p:blipFill>
        <p:spPr>
          <a:xfrm>
            <a:off x="7772400" y="2971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1" descr="3ee019f0c5a1a3f0026948638f71c28b"/>
          <p:cNvPicPr/>
          <p:nvPr/>
        </p:nvPicPr>
        <p:blipFill>
          <a:blip r:embed="rId5"/>
          <a:stretch/>
        </p:blipFill>
        <p:spPr>
          <a:xfrm>
            <a:off x="7696080" y="1447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3ee019f0c5a1a3f0026948638f71c28b"/>
          <p:cNvPicPr/>
          <p:nvPr/>
        </p:nvPicPr>
        <p:blipFill>
          <a:blip r:embed="rId6"/>
          <a:stretch/>
        </p:blipFill>
        <p:spPr>
          <a:xfrm>
            <a:off x="54100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3" descr="3ee019f0c5a1a3f0026948638f71c28b"/>
          <p:cNvPicPr/>
          <p:nvPr/>
        </p:nvPicPr>
        <p:blipFill>
          <a:blip r:embed="rId7"/>
          <a:stretch/>
        </p:blipFill>
        <p:spPr>
          <a:xfrm>
            <a:off x="335268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4" descr="3ee019f0c5a1a3f0026948638f71c28b"/>
          <p:cNvPicPr/>
          <p:nvPr/>
        </p:nvPicPr>
        <p:blipFill>
          <a:blip r:embed="rId8"/>
          <a:stretch/>
        </p:blipFill>
        <p:spPr>
          <a:xfrm>
            <a:off x="1371600" y="1600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5" descr="d1067998bd7416aad3c1b4152aefab22"/>
          <p:cNvPicPr/>
          <p:nvPr/>
        </p:nvPicPr>
        <p:blipFill>
          <a:blip r:embed="rId9"/>
          <a:stretch/>
        </p:blipFill>
        <p:spPr>
          <a:xfrm>
            <a:off x="1371600" y="47242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6" descr="d1067998bd7416aad3c1b4152aefab22"/>
          <p:cNvPicPr/>
          <p:nvPr/>
        </p:nvPicPr>
        <p:blipFill>
          <a:blip r:embed="rId10"/>
          <a:stretch/>
        </p:blipFill>
        <p:spPr>
          <a:xfrm>
            <a:off x="3429000" y="320040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7" descr="d1067998bd7416aad3c1b4152aefab22"/>
          <p:cNvPicPr/>
          <p:nvPr/>
        </p:nvPicPr>
        <p:blipFill>
          <a:blip r:embed="rId11"/>
          <a:stretch/>
        </p:blipFill>
        <p:spPr>
          <a:xfrm>
            <a:off x="5410080" y="15238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8" descr="d1067998bd7416aad3c1b4152aefab22"/>
          <p:cNvPicPr/>
          <p:nvPr/>
        </p:nvPicPr>
        <p:blipFill>
          <a:blip r:embed="rId12"/>
          <a:stretch/>
        </p:blipFill>
        <p:spPr>
          <a:xfrm>
            <a:off x="7848720" y="4648320"/>
            <a:ext cx="952560" cy="10760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9"/>
          <p:cNvSpPr/>
          <p:nvPr/>
        </p:nvSpPr>
        <p:spPr>
          <a:xfrm>
            <a:off x="137160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aa44f6d72d88c0f62fa3726c3f899567"/>
          <p:cNvPicPr/>
          <p:nvPr/>
        </p:nvPicPr>
        <p:blipFill>
          <a:blip r:embed="rId1"/>
          <a:stretch/>
        </p:blipFill>
        <p:spPr>
          <a:xfrm>
            <a:off x="6095880" y="106668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614" name="Rectangle 14" descr=""/>
          <p:cNvPicPr/>
          <p:nvPr/>
        </p:nvPicPr>
        <p:blipFill>
          <a:blip r:embed="rId2"/>
          <a:stretch/>
        </p:blipFill>
        <p:spPr>
          <a:xfrm>
            <a:off x="2346480" y="2359080"/>
            <a:ext cx="406080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b3b0a067af846a956f8a9cc4e9a7dfe5"/>
          <p:cNvPicPr/>
          <p:nvPr/>
        </p:nvPicPr>
        <p:blipFill>
          <a:blip r:embed="rId4"/>
          <a:stretch/>
        </p:blipFill>
        <p:spPr>
          <a:xfrm>
            <a:off x="838080" y="838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flowers24"/>
          <p:cNvPicPr/>
          <p:nvPr/>
        </p:nvPicPr>
        <p:blipFill>
          <a:blip r:embed="rId5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5"/>
          <p:cNvSpPr/>
          <p:nvPr/>
        </p:nvSpPr>
        <p:spPr>
          <a:xfrm>
            <a:off x="10666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25" name="WordArt 5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6" name="Diagram 7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27" name="_s102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2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3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3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25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VOPROS"/>
          <p:cNvPicPr/>
          <p:nvPr/>
        </p:nvPicPr>
        <p:blipFill>
          <a:blip r:embed="rId7"/>
          <a:stretch/>
        </p:blipFill>
        <p:spPr>
          <a:xfrm>
            <a:off x="6324480" y="25909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50" name="_s205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205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05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205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05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05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205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05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206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206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206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206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206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3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72" name="_s3076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3077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3078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3079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3080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081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082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3083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3084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3085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3086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3087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3088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VOPROS"/>
          <p:cNvPicPr/>
          <p:nvPr/>
        </p:nvPicPr>
        <p:blipFill>
          <a:blip r:embed="rId4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VOPROS"/>
          <p:cNvPicPr/>
          <p:nvPr/>
        </p:nvPicPr>
        <p:blipFill>
          <a:blip r:embed="rId5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93" name="_s4100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4101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102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103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104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105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4106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4107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4108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_s4109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4110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4111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4112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1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3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4" descr="VOPROS"/>
          <p:cNvPicPr/>
          <p:nvPr/>
        </p:nvPicPr>
        <p:blipFill>
          <a:blip r:embed="rId4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13" name="_s5124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5125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6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7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8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9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30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1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2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3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4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5135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5136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20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1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3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32" name="_s614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614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615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615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5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6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21" descr="VOPROS"/>
          <p:cNvPicPr/>
          <p:nvPr/>
        </p:nvPicPr>
        <p:blipFill>
          <a:blip r:embed="rId2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50" name="_s717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717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717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717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717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717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одснеж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717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8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8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8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8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8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139760" y="-109440"/>
            <a:ext cx="7059600" cy="9014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В садике нам рассказывали 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узнавали новые наз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Из бумаги мы сдела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любовалис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5" name="Picture 4" descr="blume049"/>
          <p:cNvPicPr/>
          <p:nvPr/>
        </p:nvPicPr>
        <p:blipFill>
          <a:blip r:embed="rId2"/>
          <a:stretch/>
        </p:blipFill>
        <p:spPr>
          <a:xfrm>
            <a:off x="3124080" y="449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lume049"/>
          <p:cNvPicPr/>
          <p:nvPr/>
        </p:nvPicPr>
        <p:blipFill>
          <a:blip r:embed="rId3"/>
          <a:stretch/>
        </p:blipFill>
        <p:spPr>
          <a:xfrm>
            <a:off x="4191120" y="3276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blume049"/>
          <p:cNvPicPr/>
          <p:nvPr/>
        </p:nvPicPr>
        <p:blipFill>
          <a:blip r:embed="rId4"/>
          <a:stretch/>
        </p:blipFill>
        <p:spPr>
          <a:xfrm>
            <a:off x="518148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lume049"/>
          <p:cNvPicPr/>
          <p:nvPr/>
        </p:nvPicPr>
        <p:blipFill>
          <a:blip r:embed="rId5"/>
          <a:stretch/>
        </p:blipFill>
        <p:spPr>
          <a:xfrm>
            <a:off x="5029200" y="7621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6251040" y="12952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6327360" y="2514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717880" y="35812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4651560" y="480060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16:10Z</dcterms:created>
  <dc:creator>Сергей</dc:creator>
  <dc:description/>
  <dc:language>en-US</dc:language>
  <cp:lastModifiedBy>Анна</cp:lastModifiedBy>
  <dcterms:modified xsi:type="dcterms:W3CDTF">2020-04-24T07:28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