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2.gif" ContentType="image/gif"/>
  <Override PartName="/ppt/media/image2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DFF-3CD3-4338-9BC0-614C06B3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B4F-A27F-477C-810F-777A6C90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101A9-8CF6-41FD-B6BA-6B91D613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4E388-82CA-464D-9D97-54667B7E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B5972-D0E3-4A48-B5EB-1ECA433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3D35B-0F66-47ED-B54B-BEA41D09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3EB8A-1022-4E67-94CD-4B98148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F60B3-E2B0-420D-B02E-8449330F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5BA0B-611F-495A-80A8-3B097C74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09214-AF7A-416A-8401-21135DEC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057C0-6C33-4F7B-8934-7ECB1B7C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A2A-3D75-456A-99D8-A79629D2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3DB-73AC-4B7B-B4D4-A8717833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CCEA-39A9-45A0-AD91-0DE6C9B0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938A-A467-44AF-B22A-ED8E3A0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890A-649C-4FBC-B456-63312B85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E759-FDB2-48F8-847B-2100E209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645-1174-4998-A78E-866551E2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89E1-C32E-4F53-95C4-7FCC742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DB3-507E-488F-9772-08D570DC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D37-B0C3-440D-9A07-9D850350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8E7E-8FB9-4FA2-891B-5BD364B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D249-CD3C-4B0C-8DB1-313618E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244D-6C95-4AEC-A724-F6983CC3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B4BD-C139-4F4B-B318-E2FB5303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6D0C-68A0-4E88-BCF2-1D5CC538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7A55-8939-4115-8A24-BD4B01D4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22FF-08C9-46F1-A490-6E131E9F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6F7E-27E2-4CBA-BCC2-C76F1B3B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880F-3227-4D36-9BD2-7F5C2B8A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F2E0-D2E1-46D1-8E59-B62A30EB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84E-FBE0-4ED4-A9B3-6143846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858A-9EC8-4984-93B8-5C888B20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4CB2-EC35-4A25-8610-7C3F66C0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7A8D-2CFC-47EA-8FF8-2711EF9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6E2D-3D6D-4DC8-93D9-0F6BDAB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3BDD-8026-4E48-B195-0AD0493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F15E-39E3-4206-A2DE-85B2D816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B6ED-1E1B-4FED-B466-15DAB6E3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6E0B-5F5B-46AC-984A-DA181325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51BA-4B08-4578-BC59-340B9D0A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98592-23E6-4959-B54A-F296EF2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0A2-8EB8-4509-BF0E-A2B6434A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96969-1DA3-4316-AD23-D99B51EA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0856-48D5-4C62-89EA-7AA3CC6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493B-B83F-4904-96D7-EFCFD82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4400F-44F4-4AEC-B448-AEB74BA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4A7A6-BD6D-4F63-A3BF-ABFC41F3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E231-ED69-4E9A-9746-40B72F8F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4AE8-EE17-470B-A82B-0B538FC7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D459-8B50-47DD-903E-1964B172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1F46-0849-44C2-B951-07A49A0E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474F-D32A-4D5A-BE5D-6BB976A2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00C-B9F3-495B-ADB0-8B8F0572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1D42-002F-4B8A-8EEB-46FD701F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70EF-0AB3-4719-B4A2-4C02CE27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FF090-A470-47CB-B050-A39765E0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D8277-F084-4E14-BC30-C149EDA1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F512F-9E07-4119-8AF8-08A3C837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00CC-EC5D-4918-B927-2614270A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FCFB5-1450-4194-BE49-277402C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A0632-B5B3-4F02-AE77-D9DE9994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D907-155A-4E03-A6AB-D05F7B90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131EC-34F6-4E8A-9129-C1F47A5B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323-7517-4F5D-8B6C-CB8E3BF3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DEB3-0ADA-4E32-90EE-E42926E0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F6B4-60DA-4F20-9D0F-2E33A66A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C87F-619A-49B0-B2BD-1D64320D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114F3-3C39-4D88-B153-EC8C8BEE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448E-02D5-4C6B-B6B2-BF880703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1F14-EE0D-4740-B36B-D19A46FA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64C8B-B826-4BE4-B61F-A3A42526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20334-D820-4E73-8F3D-196CE37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1897-F92F-40B4-B9CE-1D1DACD4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7149-D2B9-456A-A3CC-82D38A80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A97-C290-465F-9FBB-2C1743C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EE65B-08D3-493B-9DB6-44E9906D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5CCF9-6BAE-4013-8D25-50C2874F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8AFD-E40E-4694-B482-0B593539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20706-20FC-4C35-8941-96C5EE6F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7B680-5986-4F24-9790-63A7A33B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AA904-D3C5-47C9-8ED5-2AB4D542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C12DB-A68A-4A3E-B4BA-233C33E0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490D7-BBFF-4F8F-BF9B-E8BB1BDA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7D93-52DB-4637-8118-1C9509DD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CC87E-464F-4AB5-A384-D24CCE3D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A38-F78D-4D2E-8521-47CB1243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08D98-C769-4BA2-BAAF-36792E13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19ABD-74F7-4992-AD48-1AC5A3A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1700-E2B2-4E0B-A6D8-92297E89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7839-2CBB-46AD-9657-1D171565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DB5E8-67DC-4767-BB14-2AF7CE1C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44848-2315-4F97-9D80-B6A7F92C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CC612-B1E9-42F5-B372-6CBE1DA1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18AA5-923D-4FEC-916B-53E0AC06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CA989-F2A2-4EE4-90AA-5911D963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21242-DEDE-403F-A4A3-CFAF70BF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56E-B29F-41F0-8EA3-2031219E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0B62F-E061-4149-BDBD-4C02DFC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03D98-543D-4648-BAA8-F8481FF1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89F2-862E-496A-88D5-355E84E9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C4992-7117-4527-8581-EB520A85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22189-621F-4E4C-BCC7-14BB0C82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B5387-1D06-4AD9-A328-3711E9A7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FB31C-BE08-472C-A274-6818F282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2DFA9-B7B9-46B6-ABA3-DCE420B6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BD849-88BA-4815-A43F-09C24A85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CC022-6406-499D-A00A-7FA243E5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33A-CAB5-4BF9-A34A-E681F4FE8B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5803-5345-44A9-B198-9DC59C9A8DA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76E1-3146-4D11-BF29-43F7A8C84C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4860-CFD7-4772-AA10-C35ABA2464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AF38-4CB3-4954-A136-003DD545BB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ABBB-62FE-4D7D-AC2B-18AABB58D4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04DF-8B8C-4E1B-8C3C-ABEED27849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1C8E-A4B4-4668-A542-1B503D4910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EC32-C9C5-468F-BAF5-F7468E647A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15.gif"/><Relationship Id="rId10" Type="http://schemas.openxmlformats.org/officeDocument/2006/relationships/image" Target="../media/image19.gif"/><Relationship Id="rId11" Type="http://schemas.openxmlformats.org/officeDocument/2006/relationships/image" Target="../media/image18.gif"/><Relationship Id="rId12" Type="http://schemas.openxmlformats.org/officeDocument/2006/relationships/image" Target="../media/image15.gi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aa44f6d72d88c0f62fa3726c3f899567"/>
          <p:cNvPicPr/>
          <p:nvPr/>
        </p:nvPicPr>
        <p:blipFill>
          <a:blip r:embed="rId1"/>
          <a:stretch/>
        </p:blipFill>
        <p:spPr>
          <a:xfrm>
            <a:off x="6400800" y="838080"/>
            <a:ext cx="2438280" cy="193356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6" descr=""/>
          <p:cNvPicPr/>
          <p:nvPr/>
        </p:nvPicPr>
        <p:blipFill>
          <a:blip r:embed="rId2"/>
          <a:stretch/>
        </p:blipFill>
        <p:spPr>
          <a:xfrm>
            <a:off x="1719360" y="2535120"/>
            <a:ext cx="5930640" cy="1208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b3b0a067af846a956f8a9cc4e9a7dfe5"/>
          <p:cNvPicPr/>
          <p:nvPr/>
        </p:nvPicPr>
        <p:blipFill>
          <a:blip r:embed="rId4"/>
          <a:stretch/>
        </p:blipFill>
        <p:spPr>
          <a:xfrm>
            <a:off x="762120" y="76212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flowers24"/>
          <p:cNvPicPr/>
          <p:nvPr/>
        </p:nvPicPr>
        <p:blipFill>
          <a:blip r:embed="rId5"/>
          <a:stretch/>
        </p:blipFill>
        <p:spPr>
          <a:xfrm>
            <a:off x="228600" y="358128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5029200" y="5334120"/>
            <a:ext cx="396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3255840" y="378000"/>
            <a:ext cx="3059280" cy="933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f43"/>
          <p:cNvPicPr/>
          <p:nvPr/>
        </p:nvPicPr>
        <p:blipFill>
          <a:blip r:embed="rId2"/>
          <a:stretch/>
        </p:blipFill>
        <p:spPr>
          <a:xfrm>
            <a:off x="609480" y="15238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f43"/>
          <p:cNvPicPr/>
          <p:nvPr/>
        </p:nvPicPr>
        <p:blipFill>
          <a:blip r:embed="rId3"/>
          <a:stretch/>
        </p:blipFill>
        <p:spPr>
          <a:xfrm>
            <a:off x="2286000" y="23623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f43"/>
          <p:cNvPicPr/>
          <p:nvPr/>
        </p:nvPicPr>
        <p:blipFill>
          <a:blip r:embed="rId4"/>
          <a:stretch/>
        </p:blipFill>
        <p:spPr>
          <a:xfrm>
            <a:off x="4038480" y="31240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f43"/>
          <p:cNvPicPr/>
          <p:nvPr/>
        </p:nvPicPr>
        <p:blipFill>
          <a:blip r:embed="rId5"/>
          <a:stretch/>
        </p:blipFill>
        <p:spPr>
          <a:xfrm>
            <a:off x="5943600" y="39625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f43"/>
          <p:cNvPicPr/>
          <p:nvPr/>
        </p:nvPicPr>
        <p:blipFill>
          <a:blip r:embed="rId6"/>
          <a:stretch/>
        </p:blipFill>
        <p:spPr>
          <a:xfrm>
            <a:off x="7391520" y="4800600"/>
            <a:ext cx="1319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6" descr="b11"/>
          <p:cNvPicPr/>
          <p:nvPr/>
        </p:nvPicPr>
        <p:blipFill>
          <a:blip r:embed="rId1"/>
          <a:stretch/>
        </p:blipFill>
        <p:spPr>
          <a:xfrm>
            <a:off x="7696080" y="1219320"/>
            <a:ext cx="105408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2" name="Picture 29" descr="blume049"/>
          <p:cNvPicPr/>
          <p:nvPr/>
        </p:nvPicPr>
        <p:blipFill>
          <a:blip r:embed="rId2"/>
          <a:stretch/>
        </p:blipFill>
        <p:spPr>
          <a:xfrm>
            <a:off x="7620120" y="4648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0" descr="blume049"/>
          <p:cNvPicPr/>
          <p:nvPr/>
        </p:nvPicPr>
        <p:blipFill>
          <a:blip r:embed="rId3"/>
          <a:stretch/>
        </p:blipFill>
        <p:spPr>
          <a:xfrm>
            <a:off x="3352680" y="3048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1" descr="b13"/>
          <p:cNvPicPr/>
          <p:nvPr/>
        </p:nvPicPr>
        <p:blipFill>
          <a:blip r:embed="rId4"/>
          <a:stretch/>
        </p:blipFill>
        <p:spPr>
          <a:xfrm>
            <a:off x="3352680" y="46483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2" descr="b13"/>
          <p:cNvPicPr/>
          <p:nvPr/>
        </p:nvPicPr>
        <p:blipFill>
          <a:blip r:embed="rId5"/>
          <a:stretch/>
        </p:blipFill>
        <p:spPr>
          <a:xfrm>
            <a:off x="5410080" y="160020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3" descr="b11"/>
          <p:cNvPicPr/>
          <p:nvPr/>
        </p:nvPicPr>
        <p:blipFill>
          <a:blip r:embed="rId6"/>
          <a:stretch/>
        </p:blipFill>
        <p:spPr>
          <a:xfrm>
            <a:off x="5410080" y="32004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4" descr="b11"/>
          <p:cNvPicPr/>
          <p:nvPr/>
        </p:nvPicPr>
        <p:blipFill>
          <a:blip r:embed="rId7"/>
          <a:stretch/>
        </p:blipFill>
        <p:spPr>
          <a:xfrm>
            <a:off x="3352680" y="16002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5" descr="b13"/>
          <p:cNvPicPr/>
          <p:nvPr/>
        </p:nvPicPr>
        <p:blipFill>
          <a:blip r:embed="rId8"/>
          <a:stretch/>
        </p:blipFill>
        <p:spPr>
          <a:xfrm>
            <a:off x="7696080" y="289548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7" descr="blume049"/>
          <p:cNvPicPr/>
          <p:nvPr/>
        </p:nvPicPr>
        <p:blipFill>
          <a:blip r:embed="rId9"/>
          <a:stretch/>
        </p:blipFill>
        <p:spPr>
          <a:xfrm>
            <a:off x="1219320" y="15238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2" descr="b13"/>
          <p:cNvPicPr/>
          <p:nvPr/>
        </p:nvPicPr>
        <p:blipFill>
          <a:blip r:embed="rId10"/>
          <a:stretch/>
        </p:blipFill>
        <p:spPr>
          <a:xfrm>
            <a:off x="1295280" y="30481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3" descr="b11"/>
          <p:cNvPicPr/>
          <p:nvPr/>
        </p:nvPicPr>
        <p:blipFill>
          <a:blip r:embed="rId11"/>
          <a:stretch/>
        </p:blipFill>
        <p:spPr>
          <a:xfrm>
            <a:off x="1371600" y="48006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7" descr="blume049"/>
          <p:cNvPicPr/>
          <p:nvPr/>
        </p:nvPicPr>
        <p:blipFill>
          <a:blip r:embed="rId12"/>
          <a:stretch/>
        </p:blipFill>
        <p:spPr>
          <a:xfrm>
            <a:off x="5410080" y="46483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8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9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0"/>
          <p:cNvSpPr/>
          <p:nvPr/>
        </p:nvSpPr>
        <p:spPr>
          <a:xfrm>
            <a:off x="708660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Rectangle 33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716292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7" descr="4"/>
          <p:cNvPicPr/>
          <p:nvPr/>
        </p:nvPicPr>
        <p:blipFill>
          <a:blip r:embed="rId1"/>
          <a:stretch/>
        </p:blipFill>
        <p:spPr>
          <a:xfrm>
            <a:off x="3505320" y="144792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8" descr="4"/>
          <p:cNvPicPr/>
          <p:nvPr/>
        </p:nvPicPr>
        <p:blipFill>
          <a:blip r:embed="rId2"/>
          <a:stretch/>
        </p:blipFill>
        <p:spPr>
          <a:xfrm>
            <a:off x="1447920" y="31240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9" descr="4"/>
          <p:cNvPicPr/>
          <p:nvPr/>
        </p:nvPicPr>
        <p:blipFill>
          <a:blip r:embed="rId3"/>
          <a:stretch/>
        </p:blipFill>
        <p:spPr>
          <a:xfrm>
            <a:off x="5486400" y="47242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0" descr="4"/>
          <p:cNvPicPr/>
          <p:nvPr/>
        </p:nvPicPr>
        <p:blipFill>
          <a:blip r:embed="rId4"/>
          <a:stretch/>
        </p:blipFill>
        <p:spPr>
          <a:xfrm>
            <a:off x="7772400" y="2971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1" descr="3ee019f0c5a1a3f0026948638f71c28b"/>
          <p:cNvPicPr/>
          <p:nvPr/>
        </p:nvPicPr>
        <p:blipFill>
          <a:blip r:embed="rId5"/>
          <a:stretch/>
        </p:blipFill>
        <p:spPr>
          <a:xfrm>
            <a:off x="7696080" y="1447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2" descr="3ee019f0c5a1a3f0026948638f71c28b"/>
          <p:cNvPicPr/>
          <p:nvPr/>
        </p:nvPicPr>
        <p:blipFill>
          <a:blip r:embed="rId6"/>
          <a:stretch/>
        </p:blipFill>
        <p:spPr>
          <a:xfrm>
            <a:off x="54100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3" descr="3ee019f0c5a1a3f0026948638f71c28b"/>
          <p:cNvPicPr/>
          <p:nvPr/>
        </p:nvPicPr>
        <p:blipFill>
          <a:blip r:embed="rId7"/>
          <a:stretch/>
        </p:blipFill>
        <p:spPr>
          <a:xfrm>
            <a:off x="335268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4" descr="3ee019f0c5a1a3f0026948638f71c28b"/>
          <p:cNvPicPr/>
          <p:nvPr/>
        </p:nvPicPr>
        <p:blipFill>
          <a:blip r:embed="rId8"/>
          <a:stretch/>
        </p:blipFill>
        <p:spPr>
          <a:xfrm>
            <a:off x="1371600" y="1600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5" descr="d1067998bd7416aad3c1b4152aefab22"/>
          <p:cNvPicPr/>
          <p:nvPr/>
        </p:nvPicPr>
        <p:blipFill>
          <a:blip r:embed="rId9"/>
          <a:stretch/>
        </p:blipFill>
        <p:spPr>
          <a:xfrm>
            <a:off x="1371600" y="47242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6" descr="d1067998bd7416aad3c1b4152aefab22"/>
          <p:cNvPicPr/>
          <p:nvPr/>
        </p:nvPicPr>
        <p:blipFill>
          <a:blip r:embed="rId10"/>
          <a:stretch/>
        </p:blipFill>
        <p:spPr>
          <a:xfrm>
            <a:off x="3429000" y="320040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7" descr="d1067998bd7416aad3c1b4152aefab22"/>
          <p:cNvPicPr/>
          <p:nvPr/>
        </p:nvPicPr>
        <p:blipFill>
          <a:blip r:embed="rId11"/>
          <a:stretch/>
        </p:blipFill>
        <p:spPr>
          <a:xfrm>
            <a:off x="5410080" y="15238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8" descr="d1067998bd7416aad3c1b4152aefab22"/>
          <p:cNvPicPr/>
          <p:nvPr/>
        </p:nvPicPr>
        <p:blipFill>
          <a:blip r:embed="rId12"/>
          <a:stretch/>
        </p:blipFill>
        <p:spPr>
          <a:xfrm>
            <a:off x="7848720" y="4648320"/>
            <a:ext cx="952560" cy="10760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9"/>
          <p:cNvSpPr/>
          <p:nvPr/>
        </p:nvSpPr>
        <p:spPr>
          <a:xfrm>
            <a:off x="137160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aa44f6d72d88c0f62fa3726c3f899567"/>
          <p:cNvPicPr/>
          <p:nvPr/>
        </p:nvPicPr>
        <p:blipFill>
          <a:blip r:embed="rId1"/>
          <a:stretch/>
        </p:blipFill>
        <p:spPr>
          <a:xfrm>
            <a:off x="6095880" y="1066680"/>
            <a:ext cx="2438640" cy="1933560"/>
          </a:xfrm>
          <a:prstGeom prst="rect">
            <a:avLst/>
          </a:prstGeom>
          <a:ln w="0">
            <a:noFill/>
          </a:ln>
        </p:spPr>
      </p:pic>
      <p:pic>
        <p:nvPicPr>
          <p:cNvPr id="614" name="Rectangle 14" descr=""/>
          <p:cNvPicPr/>
          <p:nvPr/>
        </p:nvPicPr>
        <p:blipFill>
          <a:blip r:embed="rId2"/>
          <a:stretch/>
        </p:blipFill>
        <p:spPr>
          <a:xfrm>
            <a:off x="2346480" y="2359080"/>
            <a:ext cx="4060800" cy="1152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" descr="b3b0a067af846a956f8a9cc4e9a7dfe5"/>
          <p:cNvPicPr/>
          <p:nvPr/>
        </p:nvPicPr>
        <p:blipFill>
          <a:blip r:embed="rId4"/>
          <a:stretch/>
        </p:blipFill>
        <p:spPr>
          <a:xfrm>
            <a:off x="838080" y="8380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flowers24"/>
          <p:cNvPicPr/>
          <p:nvPr/>
        </p:nvPicPr>
        <p:blipFill>
          <a:blip r:embed="rId5"/>
          <a:stretch/>
        </p:blipFill>
        <p:spPr>
          <a:xfrm>
            <a:off x="1371600" y="3886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5"/>
          <p:cNvSpPr/>
          <p:nvPr/>
        </p:nvSpPr>
        <p:spPr>
          <a:xfrm>
            <a:off x="106668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25" name="WordArt 5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6" name="Diagram 7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27" name="_s102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2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3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3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103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104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3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25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6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7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9" descr="VOPROS"/>
          <p:cNvPicPr/>
          <p:nvPr/>
        </p:nvPicPr>
        <p:blipFill>
          <a:blip r:embed="rId7"/>
          <a:stretch/>
        </p:blipFill>
        <p:spPr>
          <a:xfrm>
            <a:off x="6324480" y="25909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50" name="_s205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205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05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205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205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205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205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205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206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206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206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206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206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2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3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7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72" name="_s3076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_s3077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3078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3079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3080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3081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3082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3083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3084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3085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3086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s3087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3088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6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3" descr="VOPROS"/>
          <p:cNvPicPr/>
          <p:nvPr/>
        </p:nvPicPr>
        <p:blipFill>
          <a:blip r:embed="rId4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VOPROS"/>
          <p:cNvPicPr/>
          <p:nvPr/>
        </p:nvPicPr>
        <p:blipFill>
          <a:blip r:embed="rId5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9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93" name="_s4100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_s4101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4102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4103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4104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4105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_s4106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_s4107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_s4108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_s4109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_s4110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_s4111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_s4112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1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3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4" descr="VOPROS"/>
          <p:cNvPicPr/>
          <p:nvPr/>
        </p:nvPicPr>
        <p:blipFill>
          <a:blip r:embed="rId4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13" name="_s5124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_s5125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_s5126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5127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5128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5129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5130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5131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5132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5133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5134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5135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5136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20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1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3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32" name="_s614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614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615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615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615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615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615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615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_s615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615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615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615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616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21" descr="VOPROS"/>
          <p:cNvPicPr/>
          <p:nvPr/>
        </p:nvPicPr>
        <p:blipFill>
          <a:blip r:embed="rId2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50" name="_s717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_s717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717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_s717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_s717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717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одснеж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_s717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717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_s718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718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_s718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718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_s718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1139760" y="-109440"/>
            <a:ext cx="7059600" cy="9014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0" y="12949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В садике нам рассказывали 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узнавали новые наз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Из бумаги мы сделал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любовалис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5" name="Picture 4" descr="blume049"/>
          <p:cNvPicPr/>
          <p:nvPr/>
        </p:nvPicPr>
        <p:blipFill>
          <a:blip r:embed="rId2"/>
          <a:stretch/>
        </p:blipFill>
        <p:spPr>
          <a:xfrm>
            <a:off x="3124080" y="4495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blume049"/>
          <p:cNvPicPr/>
          <p:nvPr/>
        </p:nvPicPr>
        <p:blipFill>
          <a:blip r:embed="rId3"/>
          <a:stretch/>
        </p:blipFill>
        <p:spPr>
          <a:xfrm>
            <a:off x="4191120" y="3276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blume049"/>
          <p:cNvPicPr/>
          <p:nvPr/>
        </p:nvPicPr>
        <p:blipFill>
          <a:blip r:embed="rId4"/>
          <a:stretch/>
        </p:blipFill>
        <p:spPr>
          <a:xfrm>
            <a:off x="5181480" y="213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blume049"/>
          <p:cNvPicPr/>
          <p:nvPr/>
        </p:nvPicPr>
        <p:blipFill>
          <a:blip r:embed="rId5"/>
          <a:stretch/>
        </p:blipFill>
        <p:spPr>
          <a:xfrm>
            <a:off x="5029200" y="7621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8"/>
          <p:cNvSpPr/>
          <p:nvPr/>
        </p:nvSpPr>
        <p:spPr>
          <a:xfrm>
            <a:off x="6251040" y="129528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6327360" y="251460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717880" y="35812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4651560" y="480060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16:10Z</dcterms:created>
  <dc:creator>Сергей</dc:creator>
  <dc:description/>
  <dc:language>en-US</dc:language>
  <cp:lastModifiedBy>Анна</cp:lastModifiedBy>
  <dcterms:modified xsi:type="dcterms:W3CDTF">2020-04-24T07:28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